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72F9-631A-485D-AE8D-EA7D1FCD3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D43C-AB32-4A6F-BF2F-F201C77274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30D5-A504-46DA-BD2F-6F4E248AEF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34E59A83-1EAE-4F14-84F2-32AA4AC18074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FB7729AE-A1E9-4A0E-B279-1D8E624213A5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" name="Picture 10" descr=""/>
          <p:cNvPicPr/>
          <p:nvPr/>
        </p:nvPicPr>
        <p:blipFill>
          <a:blip r:embed="rId2"/>
          <a:stretch/>
        </p:blipFill>
        <p:spPr>
          <a:xfrm flipH="1">
            <a:off x="7596000" y="33336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6AA50625-97FA-4DF5-B35C-361AD885754F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 flipH="1">
            <a:off x="7885080" y="1890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FFA3E890-AC82-446A-8027-9892ABDEADE0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10" descr="C:\Users\skevin\Desktop\sanja edukacija vr banja\13234173252678_medicinski_fax_logo_za_sajt.jpg"/>
          <p:cNvPicPr/>
          <p:nvPr/>
        </p:nvPicPr>
        <p:blipFill>
          <a:blip r:embed="rId2"/>
          <a:srcRect l="33153" t="14477" r="33707" b="0"/>
          <a:stretch/>
        </p:blipFill>
        <p:spPr>
          <a:xfrm>
            <a:off x="7885080" y="189000"/>
            <a:ext cx="8622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345030BD-A5C8-4AF7-874D-C3A5BA137587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Straight Connector 2"/>
          <p:cNvSpPr/>
          <p:nvPr/>
        </p:nvSpPr>
        <p:spPr>
          <a:xfrm>
            <a:off x="457200" y="1341360"/>
            <a:ext cx="8143920" cy="0"/>
          </a:xfrm>
          <a:prstGeom prst="line">
            <a:avLst/>
          </a:prstGeom>
          <a:ln w="38160">
            <a:solidFill>
              <a:srgbClr val="f000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2"/>
          <a:stretch/>
        </p:blipFill>
        <p:spPr>
          <a:xfrm flipH="1">
            <a:off x="7704000" y="1206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532322D9-73F5-4E72-BEA8-61B4E4952642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10" descr=""/>
          <p:cNvPicPr/>
          <p:nvPr/>
        </p:nvPicPr>
        <p:blipFill>
          <a:blip r:embed="rId2"/>
          <a:stretch/>
        </p:blipFill>
        <p:spPr>
          <a:xfrm flipH="1">
            <a:off x="7956360" y="11592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6" name="Text Box 8"/>
          <p:cNvGrpSpPr/>
          <p:nvPr/>
        </p:nvGrpSpPr>
        <p:grpSpPr>
          <a:xfrm>
            <a:off x="-122400" y="6095880"/>
            <a:ext cx="9259920" cy="549360"/>
            <a:chOff x="-122400" y="6095880"/>
            <a:chExt cx="9259920" cy="549360"/>
          </a:xfrm>
        </p:grpSpPr>
        <p:pic>
          <p:nvPicPr>
            <p:cNvPr id="237" name="Text Box 8" descr=""/>
            <p:cNvPicPr/>
            <p:nvPr/>
          </p:nvPicPr>
          <p:blipFill>
            <a:blip r:embed="rId1"/>
            <a:stretch/>
          </p:blipFill>
          <p:spPr>
            <a:xfrm>
              <a:off x="-122400" y="6095880"/>
              <a:ext cx="92599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-63360" y="6137280"/>
              <a:ext cx="9144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 algn="ctr">
                <a:lnSpc>
                  <a:spcPct val="12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Доц. Др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T.</a:t>
              </a: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Лукови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9" name="TextBox 1"/>
          <p:cNvGrpSpPr/>
          <p:nvPr/>
        </p:nvGrpSpPr>
        <p:grpSpPr>
          <a:xfrm>
            <a:off x="-19080" y="3968640"/>
            <a:ext cx="9259920" cy="1322640"/>
            <a:chOff x="-19080" y="3968640"/>
            <a:chExt cx="9259920" cy="1322640"/>
          </a:xfrm>
        </p:grpSpPr>
        <p:pic>
          <p:nvPicPr>
            <p:cNvPr id="240" name="TextBox 1" descr=""/>
            <p:cNvPicPr/>
            <p:nvPr/>
          </p:nvPicPr>
          <p:blipFill>
            <a:blip r:embed="rId2"/>
            <a:stretch/>
          </p:blipFill>
          <p:spPr>
            <a:xfrm>
              <a:off x="-19080" y="3968640"/>
              <a:ext cx="925992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4280" y="4005360"/>
              <a:ext cx="914400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Verdana"/>
                </a:rPr>
                <a:t>МАГНЕТОТЕРАПИЈА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2" name="Rectangle 1"/>
          <p:cNvSpPr/>
          <p:nvPr/>
        </p:nvSpPr>
        <p:spPr>
          <a:xfrm>
            <a:off x="152280" y="0"/>
            <a:ext cx="892836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4" name="TextBox 1"/>
          <p:cNvGrpSpPr/>
          <p:nvPr/>
        </p:nvGrpSpPr>
        <p:grpSpPr>
          <a:xfrm>
            <a:off x="-66600" y="2255760"/>
            <a:ext cx="9259920" cy="889200"/>
            <a:chOff x="-66600" y="2255760"/>
            <a:chExt cx="9259920" cy="889200"/>
          </a:xfrm>
        </p:grpSpPr>
        <p:pic>
          <p:nvPicPr>
            <p:cNvPr id="245" name="TextBox 1" descr=""/>
            <p:cNvPicPr/>
            <p:nvPr/>
          </p:nvPicPr>
          <p:blipFill>
            <a:blip r:embed="rId3"/>
            <a:stretch/>
          </p:blipFill>
          <p:spPr>
            <a:xfrm>
              <a:off x="-66600" y="2255760"/>
              <a:ext cx="925992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-6480" y="2289240"/>
              <a:ext cx="9144000" cy="76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Универзитет у Кр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гујевцу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ФАКУЛТЕТ МЕДИЦИНСКИХ НАУ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47" name="Picture 10" descr=""/>
          <p:cNvPicPr/>
          <p:nvPr/>
        </p:nvPicPr>
        <p:blipFill>
          <a:blip r:embed="rId4"/>
          <a:stretch/>
        </p:blipFill>
        <p:spPr>
          <a:xfrm>
            <a:off x="3780000" y="222120"/>
            <a:ext cx="1584000" cy="20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ПРИМАРНА ДЕЈСТВА МП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ахваљући присуству феромагнетних супстанци МП изазива биоелектрична гибања - кретања јона - хиперполаризацију на северном, а хипополаризацију на јужном пол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ериодична пропустљивост ћелијске мембране без утрошка енергиј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ораст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pO2 i do 200%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ораст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AT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СЕКУНДАРНА БИОЛОШКА ДЕЈСТВА МП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азодилат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мањење вискозитета крви (антитромботички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бољшање реолошких особина крв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нтиедематоз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нтиинфламатор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офич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мулациј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калуса; зарастање ра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налгетс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ед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бољшање имунит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имулација ендокриних функ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 адаптационих ососби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АПАРАТИ ЗА МАГНЕТОТЕРАПИЈУ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парат за МТ се састоји и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управљачке јединице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генератора електричних импулса) 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соленоида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кроз чије навоје протиче струја)- у облику плоча, антена, обруча, душека, подлошки, манжетни, специјалне столиц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Апаратурни</a:t>
            </a:r>
            <a:r>
              <a:rPr b="0" lang="en-U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извор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270" name="Content Placeholder 3" descr="sl"/>
          <p:cNvPicPr/>
          <p:nvPr/>
        </p:nvPicPr>
        <p:blipFill>
          <a:blip r:embed="rId1"/>
          <a:stretch/>
        </p:blipFill>
        <p:spPr>
          <a:xfrm>
            <a:off x="2666880" y="2057400"/>
            <a:ext cx="55342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Уређај</a:t>
            </a:r>
            <a:r>
              <a:rPr b="0" lang="en-U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са</a:t>
            </a:r>
            <a:r>
              <a:rPr b="0" lang="en-U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соленоидом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272" name="Content Placeholder 3" descr="sl"/>
          <p:cNvPicPr/>
          <p:nvPr/>
        </p:nvPicPr>
        <p:blipFill>
          <a:blip r:embed="rId1"/>
          <a:stretch/>
        </p:blipFill>
        <p:spPr>
          <a:xfrm>
            <a:off x="2209680" y="1828800"/>
            <a:ext cx="4419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ТЕХНИКА ПРИМЕН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окалн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на оболели део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ефлексн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на вегетативне гангл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пшт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у пољу деловања цело тело, сем глав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ДОЗИРАЊЕ МП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Јачина поља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(m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Фреквенциј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Hz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избор зависи од индик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лазна снаг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m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реме: основна јединиц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3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рој дана: неограниче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ИНДИКАЦИОНО ПОДРУЧЈЕ У ЗАВИСНОСТИ ОД ФРЕКВЕН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1484280"/>
          <a:ext cx="8143920" cy="5089680"/>
        </p:xfrm>
        <a:graphic>
          <a:graphicData uri="http://schemas.openxmlformats.org/drawingml/2006/table">
            <a:tbl>
              <a:tblPr/>
              <a:tblGrid>
                <a:gridCol w="2170080"/>
                <a:gridCol w="59738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ФРЕКВ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000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НДИК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000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 врсте уп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ронхитис; Поремећаји спав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ипертенз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грена; Слаба циркул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инеколошке тего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растање 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генеративни реуматизам; Ванзглобни реуматиз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трауматска ст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спорено зарастање прело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озитис, тендинитис, миалг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имфед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траум. стања; Дегенер.реуматиз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80" name="Čuvar mesta za tekst 3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паље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Čuvar mesta za sadržaj 4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Инфекције уринарног трак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strit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patit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ndovaginit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stheomyelit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Реуматска запаљенска стањ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statit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Čuvar mesta za tekst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етње крвото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Čuvar mesta za sadržaj 6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ериферне сметње крвото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a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lebothrombo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85" name="Čuvar mesta za tekst 8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егресивне сметњ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ondylo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xartro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stheoporo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cheurman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lcus crur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Лезије PM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yopathi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Лезије CM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Čuvar mesta za tekst 9"/>
          <p:cNvSpPr/>
          <p:nvPr/>
        </p:nvSpPr>
        <p:spPr>
          <a:xfrm>
            <a:off x="4500720" y="1535040"/>
            <a:ext cx="4643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ттрауматска ста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вреде меких тки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шчашење зглоб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ломи костиј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сттрауматски ед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сттрауматски болов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Verdana"/>
              </a:rPr>
              <a:t>ИСТОРИЈАТ ПРИМЕНЕ МП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рц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винција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agnezija; Tale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Hipokrat, Plat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гипћани, Кинез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Римљани, Византијци, Арапи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XVII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ек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Gilbert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 магнету, магнетним телима и о великом магнету Земљи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esm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XVIII vek Glaisaul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в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ештачки магне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Le Noble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представио медицинском све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1962. Sabovljev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начај МП у диференцијацији живо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1968. Presma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јбитнија је информ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1974. Dubrov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познавање геомагн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мп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КОНТРА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ш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удноћ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Јувенилни диjабет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грађен pace-mak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ктивна TB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иновијална псеудоартро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рварење ГИ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ПРЕДНОСТИ МАГНЕТОТЕРАП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осредна примена скраћује време лече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ројне индик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ло контраиндик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нергиз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контактна метода (одећа, гипс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термична (метал, кеса с ледо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Једном антеном два болесн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Verdana"/>
              </a:rPr>
              <a:t>НЕДОСТАЦИ МАГНЕТОТЕРАП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мериз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достатак литератур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овек нема рецепторе за М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лаже дејство – дужи третма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ити ефекти код болесн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ГЛАВНИ МЕДИЦИНСКИ УЧИНЦ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егенер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нажна и дуготрајна аналгез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нтиинфламатор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нтиедемaтозн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КОНТРА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ш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еца - предео епифиза костију у развој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ео о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ео тиреоидее, гонада и других ендокр.ж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удноћа (трбух и крст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e maker (грудни кош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омбозе и тромбофлебитис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пилепсија (глав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0000"/>
                </a:solidFill>
                <a:latin typeface="Verdana"/>
                <a:ea typeface="Verdana"/>
              </a:rPr>
              <a:t>МЕРЕ</a:t>
            </a:r>
            <a:r>
              <a:rPr b="0" lang="sr-Latn-CS" sz="44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r>
              <a:rPr b="0" lang="sr-CS" sz="4400" spc="-1" strike="noStrike">
                <a:solidFill>
                  <a:srgbClr val="ff0000"/>
                </a:solidFill>
                <a:latin typeface="Verdana"/>
                <a:ea typeface="Verdana"/>
              </a:rPr>
              <a:t>ОПРЕЗА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Забрањује се радиотерапиј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Особе са металним имплататима не треба да бораве у близини јаких М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пликоват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ад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аротидним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синус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опрез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ефролитијаз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уролитијаз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c2c84"/>
                </a:solidFill>
                <a:latin typeface="Verdana"/>
              </a:rPr>
              <a:t>Пропратне појаве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Седациј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Блага узнемиренос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оремећај биорит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c2c84"/>
                </a:solidFill>
                <a:latin typeface="Verdana"/>
              </a:rPr>
              <a:t>,,Прозорско понашање живих бића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-4С(мржњење морске воде) до50С (коагулација беланчевина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pH,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нцентрација гасова,влажнос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МП зависи од 4 независна факт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оналажење ,,прозора” за терапијске и избегавање штетних ефека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Verdana"/>
              </a:rPr>
              <a:t>ИСТОРИЈАТ МАГНЕТОТЕРАП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ем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Јапану посл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в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мунија, земље бившег ССС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ћина европских земаља 1960-1985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САД 80-тих година апарати за терапијске сврх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Словенији у Марибору први пут у Ф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989. на Медицинским факултети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c2c84"/>
                </a:solidFill>
                <a:latin typeface="Verdana"/>
              </a:rPr>
              <a:t>Електромагнетна</a:t>
            </a: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c2c84"/>
                </a:solidFill>
                <a:latin typeface="Verdana"/>
              </a:rPr>
              <a:t>поља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овиј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уч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сазнањ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јасн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указуј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живо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Земљ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развија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д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утицаје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многи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риродни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фактор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међ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којим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значајн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мест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заузимај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електрич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магнет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љ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Електромагнет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љ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кој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окружуј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имај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риродн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рекло: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магнетно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поље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Земље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,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међупланетарно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магнетно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поље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,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космичко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магнетно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поље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)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Разво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техник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услови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и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вештачки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извор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магнетни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љ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кој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такођ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елуј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организа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187280" y="713880"/>
            <a:ext cx="77724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ног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америч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емач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инес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ус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британс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страживањ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оказал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овољн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јак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ерапеутск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агнет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ог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бољшат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циркулаци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тимулирајућ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црве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рв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зрнц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онос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виш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исеони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рањивих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атериј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рганим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ишићим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Значајно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дић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целокупну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енергију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тел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ак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ојачава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циркулаци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омаж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лиминисањ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тров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ел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чим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мањуј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рвн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ритисак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улс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бољшат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убок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угачак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релаксирајућ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ан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агнето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враћ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ив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елатони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ормо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павањ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вој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птималн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ив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Ојачат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мунолошк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истем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јер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ојачава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роток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исеони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рањивих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атериј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балансира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ормон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"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дмара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"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рц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мањит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тпуно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уклонит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бол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Дефинициј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агнетотерапија је примена константног и променњивог магнетног поља у циљу превенције,лечења и рехабилит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инвазивна,сигурна и ефикасна мето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П постоји око проводника са струјом и око сталних магн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ира се поље таквих карактеристика (врста,начин и доза) које ће интерферирати са МП једин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иолошко ЕМП 10-14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еомагнетно поље 47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T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;магнетне бур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Дијагностичка примена магн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Примена магнет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258" name="Picture 8" descr="Magnetoterapija"/>
          <p:cNvPicPr/>
          <p:nvPr/>
        </p:nvPicPr>
        <p:blipFill>
          <a:blip r:embed="rId1"/>
          <a:stretch/>
        </p:blipFill>
        <p:spPr>
          <a:xfrm>
            <a:off x="1643040" y="1500120"/>
            <a:ext cx="5929200" cy="5072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Verdana"/>
              </a:rPr>
              <a:t>ИЗВОРИ МАГНЕТОТЕРАП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а константног МП (безапаратурни,стални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агнетофор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тковичасти магне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војни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а електромагнетног поља (апаратурни) које настаје око проводника када кроз њега тече струј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искофреквентна 2-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EC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исокофреквентна 100- 64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LF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Хиперполаризациј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ћелиј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нормализацијом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мембранског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пот</a:t>
            </a:r>
            <a:br>
              <a:rPr sz="4000"/>
            </a:br>
            <a:endParaRPr b="0" lang="en-US" sz="40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262" name="Picture 4" descr="hiperpolarizacija"/>
          <p:cNvPicPr/>
          <p:nvPr/>
        </p:nvPicPr>
        <p:blipFill>
          <a:blip r:embed="rId1"/>
          <a:stretch/>
        </p:blipFill>
        <p:spPr>
          <a:xfrm>
            <a:off x="1066680" y="2057400"/>
            <a:ext cx="7467840" cy="434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1:33:56Z</dcterms:created>
  <dc:creator>+++</dc:creator>
  <dc:description/>
  <dc:language>en-US</dc:language>
  <cp:lastModifiedBy>Info</cp:lastModifiedBy>
  <dcterms:modified xsi:type="dcterms:W3CDTF">2016-10-09T20:52:44Z</dcterms:modified>
  <cp:revision>662</cp:revision>
  <dc:subject/>
  <dc:title>PowerPoint-Präsentation</dc:title>
</cp:coreProperties>
</file>